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ADB-BCEC-4AAF-8606-B40367BA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1CD-D142-4242-94E4-9444428C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1C0B0-D04D-4A9B-B506-30BDB82D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C09DB-CEC6-4D81-A251-AE42A21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08039-E2F9-451B-9325-85C5A0F5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D1E04-5EF7-45E7-A327-92112265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B74E-67C8-4899-AE29-F8CFE50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B3F47-2D0B-426C-883D-76FD3036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314C9-80F3-4396-BC6B-94E1DD8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EA3C2-2BE2-4D1A-9CB6-EAFE4784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93539-8CB0-4C11-A898-3BCA4302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9FBAD-6824-4589-A150-B9D78D3A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D6D-68FF-4FEE-96C1-188DE6F8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822BA-4171-44E3-BC96-259C5DE3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D9D23-7C48-48EF-BA38-65C47DC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1012-2924-42A4-84D5-7B45F431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516EA-6E83-496C-8BA0-48DD3EFA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3679-7128-45F8-9C6D-40E9D022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C6A9B-F047-4135-B137-1CC352B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040FD-FA2B-477E-825A-4F1BE5DB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9B40A-6FAC-4175-944B-C4DFF135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8C67D-8F9E-4150-9F5F-4D067182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8F961-6BD1-45B8-B34D-F845D908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7C9-BEEC-4983-AE02-74A2E10B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CBAB9-712F-43DA-ABC6-E716F3BE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15360-A8FF-4612-AB09-EC35B9D1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7AA7E-271F-4FEE-8216-B7012CD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9ADFD-68E0-4563-AEC8-D77A0C2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A1D3A-3B8F-4F70-89CE-896900CA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9895D-D0CC-46BB-A522-0A305F38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2A01-E07C-4BC9-BCC0-8B6DAD4F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7B648-97FD-4221-B52B-3F85A4D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CEE25-5629-4FC7-A849-143913EF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BE1FE-F82B-4EE8-8BDE-1EDD6F6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CECE-FC0C-4A89-A3AD-0D2E62D2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DBF36-AD4A-4A8E-99B1-F9D9396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DFF15-7754-4B19-8F30-3AEA1363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A52B5-FA7E-443D-9C1B-6CB77E62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95B98-32B0-4893-8030-8D8DBE7B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A9900-C09B-45BB-B375-6D47D13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1D96-285E-4029-9D02-FAE0B7B9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B0FC4-6165-4623-B9CF-C92E773F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2D94D-9A96-49D1-80C2-356A8717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79C2E-EC2C-419F-8259-39CC1EC9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BCB78-BE41-4DEC-9E7E-F987EE3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60F9-AFD2-4FDE-BB3C-B894AC5C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1980B-EB08-4B18-A3DD-6406AA9F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9A333-5AE0-401D-A0DB-DF0196C9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04584-DBF4-4AB3-AD84-35E97427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8B29F-EBAE-4AE8-9C34-320CAA3F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B40A5-3F3E-4B35-82CA-C6B6E562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4F31-CCE5-4EE4-9BF4-88C5E84F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2F35-B56E-4C4B-9DD6-E21EB86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1BB2-C1FA-4586-88A1-3F87417C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3679-EF5C-4371-AC39-3FCFBBB0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93EB-B062-4679-A820-AD4068DA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9B9-88FE-459E-9A50-255A82E9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C08-7D6A-4290-A720-F602C8D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B1BC-DA3C-461A-8499-D75B5F5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4A12-7474-463B-8DCC-EA913211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BD8-CE10-48ED-80D2-066EDB0C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9D83-896E-40FF-83FC-0372D9DA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FDED-31DD-45F3-907B-7557C478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63D5-6B96-4C6B-A65B-708D0989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D571-6F5F-4D42-A832-6BD70F88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1A02-2267-4A4F-9F8D-EF5E551D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45CA-BFED-4E4E-8C98-C32D513C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99F-D6A3-4ADF-9741-ECA3697D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0E7E-D462-45FD-80D6-AFC7041D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2C6E-5264-4D66-9CE3-7D24FEC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6B90-C4DA-4243-A352-1FF5C9C3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30F3-73D2-40B6-8CCF-3011287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2D34-61F9-4280-9E4D-05493E2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C73A-6C74-408F-911E-C463847A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F3AF-0660-473F-8919-9392DDD8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CA65-F1AA-4D29-8F72-6A8EC6FC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248D-4640-43CB-BE84-E85A33E6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B6CE-74F1-4CDC-9CCE-DC15E429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D77-1578-4C7C-9E24-216CE7BF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B9C5-7D0F-4950-A783-EBE7E36B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4C872-CE3E-4CB6-B384-FB04D43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A2BE-57D0-4096-928B-E5564E0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E97B-4FE0-4B48-BAE9-A8EBF61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01F9-AFFE-480B-BFAF-00688C92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1103-20E3-4EBB-97E6-1DD72CF6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A2E0-F8A9-4BCF-BB0A-C00C8CD7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EFA29-D009-4F03-A6DF-9FFECA4D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01C7-5F31-4B6E-9674-4FC17133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70F4D-98E2-4911-BF21-28776CB9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EED-C25C-49A7-8C5E-74FD5991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C7515-8401-43FB-B0EB-1CE22480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5BD0-E222-4880-97E6-2852A97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5964-8499-4026-B386-F45A9194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F397-D753-4D0C-95D2-DD15908E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C7EF-D90F-4088-B981-D3C4F1BB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DF9DD-FB8E-42A1-A822-8057EAF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1F23-20B1-4731-A8AC-82D6FC3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6383-A01E-4F91-8CF2-9FA986A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8F66-BE25-4733-9480-82DD4963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66A81-8280-4B39-90AD-4AE26195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0F4-5B66-4E7E-8EE0-B13DE3DC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37CE-325F-4AEC-9B7E-9AFC770A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A00E7-F8E2-46D0-9C7C-5E12097A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A82A-6209-44B1-A0FB-08C7F3C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F7A3-6388-4E4F-AB73-A6D96A7C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DCFB-EF81-497A-9CE4-E6F46E9D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9EBB-8911-4C68-9942-2E46B87D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8BA6-4A80-4EE1-95F0-CA2E44C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F9773-2EFA-4F88-B9B7-1A47578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13AAC-CD10-4D23-9588-43FCAB6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4817-D93B-41FF-ABB4-F106E73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D86-C0E8-4535-93B3-3498D87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FD1D-6D56-47DA-8CF0-F79D8F1E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52906-DBFD-41B1-BC15-98AC6A01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DEE8-19F7-4ED5-ADBE-438544C7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F1FE7-81C0-4072-A9E7-BB3E4E2C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341CB-1132-43CE-B410-E145434C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DA0A-509C-4DBD-AA0F-E3BEB12E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6ABF-3F23-4F56-879C-DDD8818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01622-34B7-4617-9CF0-54029DA1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FF79-09F2-4915-8D87-D31AE88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A2CCA-E783-47BC-BC98-722C904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F88-8BD8-40A8-9B5A-AA3A1816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0F3C-9225-4C23-B99C-990690C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86E29-7348-491D-8479-A62A888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89D4-23AA-4632-8E0B-E58D5B82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A7EBF-9EFC-4E61-8091-03B840CE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627B-7AD9-4761-B5D4-6B343B29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D9026-5031-42EB-A2B1-834BC7C7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527BF-82AC-407C-BE68-126EEE09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B3A12-766A-465B-A8F5-1BA16529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B412-B3DC-4EAC-BAA5-06641A1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DC3C-8E88-47E4-AFC4-A89E7DED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146-E78A-4816-939F-0D2E3D0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5F0AE-7967-4C42-BEF6-4D6A99D3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BFDC9-D2FB-42D6-8AB7-E1CA80F1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3990-6322-433C-96B1-34EBD79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53F27-8E7B-4648-AF7C-81CFBFF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418F-AF8C-4A3E-AB0B-0D03AC76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4B905-DA0E-457B-95CE-E96CD71A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3372B-FD3A-48F3-9E0D-C6E4D80A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9F8B7-69FE-4452-8635-14C0CF79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3CE7-2B77-4951-9311-8B21E234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B0559-5BC0-427A-8BFC-33A3020A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14FF-60DF-41F3-BD90-8087774EA9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6347-ECED-4751-AEB8-5C2DA4501D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2F61-4AEA-46F2-8F23-D5615C99DE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70E-9F0D-4B86-9876-33819C604E1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D3FE-A0EC-4958-A622-E94660813B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B7FD-A1EB-403F-B219-5DF1DD5AE1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ACA0-16E3-48D9-AAF6-505A9E0B422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6BD-1804-456B-970C-C30C7332DA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5244-CA70-459B-8A9E-5C5F1F1A5E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43F4-4088-4F2E-836F-EB797D68A58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A6F-767C-4C02-BA47-9D296B34AB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8E8B-AFF9-4BC8-97A7-CACEA58C24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2 Na každý deň, môj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aždý deň, môj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čokoľvek sa st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, prosím, radu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 dobrom i zlom čase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ies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chceš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á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ečnej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pás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verným chystáš nový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som často blúd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kutky iných súd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lastný zrel som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ráč ma pýchy zbav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č teba vďačne sláv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sť blížnych k tebe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úč slova do tmy svie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cestu tvojich de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ím viesť sa chcem vždy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príde žiaľ, či úzk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silu tvoja blízk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chceš vždy ver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 tvoja hriechy zmýv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tvoj kríž sa dív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sť smelo môže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ádej, radosť dáva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práci požehnáva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drahší mi nad celý svet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6T18:44:10Z</dcterms:modified>
  <cp:revision>21</cp:revision>
  <dc:subject/>
  <dc:title>Je veľký náš Pán, on slávy je Kráľ Nech do všetkých strán  spev vrúcnych znie chvál.</dc:title>
</cp:coreProperties>
</file>